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8E0-59E3-4AB6-B90E-3C62EA70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781-18CE-4C51-84CB-194860F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606-A513-4751-9E12-1C394A3F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494-9F7E-4F7D-8A36-5B71F379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718B-C01A-4D83-AA37-5968CFD8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DCC6-77B8-49D2-865A-993B267C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92E-A6BD-4D1B-8587-DE138A1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D7D5-B121-4A22-ACFA-C060AFC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FF64-056B-4F7D-887C-E491AAA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D29B-8A57-4DFE-A95D-F64C3147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A889-F2AB-4C36-8855-09BCB521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8F2-351F-405B-AC59-D281BC64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E02D-5DB9-4410-89FE-AA119A96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02E-2B15-4983-B312-9031CC1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168E-52A9-47CD-B847-418EB9F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45D-7DE7-441F-B246-03B2CF55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3AC0-4D77-483C-B069-E8DC6135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BD6A-6680-4171-B33C-D55F95CC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F1C0-CF9B-4589-88DD-8EAB83DC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0F62-E14B-467E-BB5E-66EC9A4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FB44-9329-42AE-802A-E5ED5E3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9E14-E9D0-4044-BF43-35DA81E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5ED-D1AC-4291-AB92-03A94EAC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4387-A0C5-4DD3-9C00-A9F7B5B8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5D7C-DAE3-4EA0-A15C-C3641D7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7F0D-28D6-4F87-BCCA-33EC3BD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97EC-02D3-456D-B542-F714569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4B5D-F276-478B-BAD1-D4AB84D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66DA-4C8D-4866-8428-EB2E4635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07A3-1114-4732-8C4B-28E995DF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7803-E71A-4103-9B62-5D765FE0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0038-43B3-4AB3-AB07-88FE4A1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5D7E-3619-4390-B92F-97E1CEDA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886-A7DC-45A0-B41A-79C689DE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8ADF-E0DD-4065-A6B7-462B0A7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0702-9355-4584-81C2-3F3EC57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D54A-B547-42D8-95D9-195BE3EA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2A56-6B31-479E-9541-07DB686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E63D-BB18-4C9C-BBC4-43277F1A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F294-AC7E-45B8-ABDF-31423E0A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24C6-6387-4635-B32B-28811739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3D9E-B14C-4507-943B-63C368A2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B984-2773-4D46-9A27-B8DEDFDC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7E43-25FD-4332-B703-B71F02DA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16F-AE7B-453F-A236-4ACA214C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8E2A9-8B91-430D-8C42-774D72DA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01BD-F89F-40FF-941C-A7B224B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E5C1-C25E-4F23-B014-A66607E4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21369-1E26-4763-8725-2BCD2938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953A-9CB1-4F0B-B2A7-6090C8CD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7F03-FD2F-4785-B439-E834F691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44A6-9045-4732-9075-333ADA3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91D5-663A-4439-928A-485199C8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1BCA-7290-4302-A54A-8F54634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6F4A-FDFF-46BD-90E1-12EE0908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3D7-B5A3-4D0E-A297-36BDFF3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15AD-F6F2-4507-B746-851D90E2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856-10A7-4F52-927A-F6D2CAF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630-A61E-4FB0-B802-6488985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3BC-A995-40BF-AE6B-8E6D6EE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0D5A-6FC7-4CE0-BE07-613F6977E4A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617-3152-425C-8AB3-5508231EAA5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842D-1822-4C1B-BEF7-2B272328763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A956-1FAB-40B8-8B85-4F98DB047EE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9D40-A5B1-4A8D-B1B0-0FD8DB2AFF9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DERSTANDING HOTEL ORGANIZATIONS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4000" y="4436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8" descr="j0308362[1]"/>
          <p:cNvPicPr/>
          <p:nvPr/>
        </p:nvPicPr>
        <p:blipFill>
          <a:blip r:embed="rId1"/>
          <a:stretch/>
        </p:blipFill>
        <p:spPr>
          <a:xfrm>
            <a:off x="6500880" y="385776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functions are those behind the scenes activities that support the line functions and have little contact with gues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Engineering, security, human resources, marketing, accoun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= C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hr5.jpg"/>
          <p:cNvPicPr/>
          <p:nvPr/>
        </p:nvPicPr>
        <p:blipFill>
          <a:blip r:embed="rId1"/>
          <a:stretch/>
        </p:blipFill>
        <p:spPr>
          <a:xfrm>
            <a:off x="2620800" y="334800"/>
            <a:ext cx="3505320" cy="20606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3214800" y="85716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taff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Sales and Marke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dividual sales manager in charge of corporate accounts, conventions, tour and travel marke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ow intradepartmental interdepend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Human Resources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ists of employee recruitment, benefits administration, training sub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Accoun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pares payroll, manages accounts receivables, accounts payables, handles purchases and cost controls, store room operations, night au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ngineering and Secu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pairs, maintenance, guest  and property security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786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otel Functional Organizational Desig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989800" y="31431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497880" y="1928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8" name="Straight Arrow Connector 9"/>
          <p:cNvCxnSpPr/>
          <p:nvPr/>
        </p:nvCxnSpPr>
        <p:spPr>
          <a:xfrm>
            <a:off x="4929120" y="3142800"/>
            <a:ext cx="121536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69" name="Straight Arrow Connector 10"/>
          <p:cNvCxnSpPr/>
          <p:nvPr/>
        </p:nvCxnSpPr>
        <p:spPr>
          <a:xfrm flipH="1" flipV="1">
            <a:off x="5000040" y="3499560"/>
            <a:ext cx="114372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0" name="TextBox 13"/>
          <p:cNvSpPr/>
          <p:nvPr/>
        </p:nvSpPr>
        <p:spPr>
          <a:xfrm>
            <a:off x="2733840" y="2071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Box 14"/>
          <p:cNvSpPr/>
          <p:nvPr/>
        </p:nvSpPr>
        <p:spPr>
          <a:xfrm>
            <a:off x="6072120" y="3071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469080" y="44290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ierge / Bell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3" name="Straight Arrow Connector 16"/>
          <p:cNvCxnSpPr/>
          <p:nvPr/>
        </p:nvCxnSpPr>
        <p:spPr>
          <a:xfrm>
            <a:off x="2356920" y="2500200"/>
            <a:ext cx="1001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74" name="Straight Arrow Connector 18"/>
          <p:cNvCxnSpPr/>
          <p:nvPr/>
        </p:nvCxnSpPr>
        <p:spPr>
          <a:xfrm flipH="1" flipV="1">
            <a:off x="1928520" y="2500200"/>
            <a:ext cx="100080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5" name="TextBox 21"/>
          <p:cNvSpPr/>
          <p:nvPr/>
        </p:nvSpPr>
        <p:spPr>
          <a:xfrm>
            <a:off x="5247360" y="36432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n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6" name="Straight Arrow Connector 23"/>
          <p:cNvCxnSpPr/>
          <p:nvPr/>
        </p:nvCxnSpPr>
        <p:spPr>
          <a:xfrm flipH="1">
            <a:off x="2714040" y="3786120"/>
            <a:ext cx="929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  <p:cxnSp>
        <p:nvCxnSpPr>
          <p:cNvPr id="277" name="Straight Arrow Connector 26"/>
          <p:cNvCxnSpPr/>
          <p:nvPr/>
        </p:nvCxnSpPr>
        <p:spPr>
          <a:xfrm flipV="1">
            <a:off x="4714560" y="2214360"/>
            <a:ext cx="857880" cy="7862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8" name="TextBox 32"/>
          <p:cNvSpPr/>
          <p:nvPr/>
        </p:nvSpPr>
        <p:spPr>
          <a:xfrm>
            <a:off x="5333760" y="157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33"/>
          <p:cNvSpPr/>
          <p:nvPr/>
        </p:nvSpPr>
        <p:spPr>
          <a:xfrm>
            <a:off x="5657760" y="20718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0" name="Straight Arrow Connector 36"/>
          <p:cNvCxnSpPr/>
          <p:nvPr/>
        </p:nvCxnSpPr>
        <p:spPr>
          <a:xfrm flipH="1" flipV="1">
            <a:off x="6714360" y="2285640"/>
            <a:ext cx="857880" cy="7149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81" name="TextBox 43"/>
          <p:cNvSpPr/>
          <p:nvPr/>
        </p:nvSpPr>
        <p:spPr>
          <a:xfrm>
            <a:off x="5969880" y="4929120"/>
            <a:ext cx="165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und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2" name="Straight Arrow Connector 48"/>
          <p:cNvCxnSpPr/>
          <p:nvPr/>
        </p:nvCxnSpPr>
        <p:spPr>
          <a:xfrm flipH="1">
            <a:off x="7071480" y="3785760"/>
            <a:ext cx="786600" cy="10724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Content Placeholder 6" descr="hr22.jpg"/>
          <p:cNvPicPr/>
          <p:nvPr/>
        </p:nvPicPr>
        <p:blipFill>
          <a:blip r:embed="rId1"/>
          <a:stretch/>
        </p:blipFill>
        <p:spPr>
          <a:xfrm>
            <a:off x="1792440" y="1143000"/>
            <a:ext cx="55972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ve basic lodging business fo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Cont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j0322381[1]"/>
          <p:cNvPicPr/>
          <p:nvPr/>
        </p:nvPicPr>
        <p:blipFill>
          <a:blip r:embed="rId1"/>
          <a:stretch/>
        </p:blipFill>
        <p:spPr>
          <a:xfrm rot="8667600">
            <a:off x="5508360" y="2944080"/>
            <a:ext cx="2448000" cy="199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Operate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ood to have been the first type of lodging management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el is run by an owner and the owner’s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ly popular Bed and Breakfast hotel is considered 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Manag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hired additional (non-family) personnel to help with the running of the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verall management is in the hands of the owner, but day to day operations can be in the hands of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depend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no role or management in day to day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dependent group of managers are responsible to the owner for the hotel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is not chain affili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provides standard operating procedures and guidelines to maintain a consistent level of quality and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has limited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expect to pay in the range of $90,000 to $150,000 in initial fees for a first-class hotel franchise like Hilton‘s Homewood Su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sts typically include royalty fees, reservation fees, marketing fees, frequent traveler fees, and miscellaneous charges for items like training or commissions. These numbers are calculated assuming a 300-room hotel with 60% occupancy for the first year, so actual costs can vary. Total costs over ten years can run as high as $10 million or m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al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and Staff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and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with the best relationships with their franchisors reported gross operating profits per room (GOPAR) of $12,400, which translates to over $3.2 million per year in a 300 room hot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 Franchises: Marriott (Ritz Carlton), Hilton, Four Seasons, Park Plaza, Holiday In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anagement Contrac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hain maintains a high level of control as the chain operates the hotel on the owner’s behal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hotel companies offer both franchises and management contra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fees are paid as a % of reven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Revenues, Profits and Costs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3" name="Picture 4" descr="http://www.fotosearch.com/bthumb/FSC/FSC044/x10709781.jpg"/>
          <p:cNvPicPr/>
          <p:nvPr/>
        </p:nvPicPr>
        <p:blipFill>
          <a:blip r:embed="rId1"/>
          <a:stretch/>
        </p:blipFill>
        <p:spPr>
          <a:xfrm>
            <a:off x="1857240" y="954000"/>
            <a:ext cx="5143680" cy="357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venue Sourc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 revenue source is the result of a product or service a hotel makes available to guests for a pr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eeping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eting / Function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lets / Ancillary Revenue 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Roo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eeping room is the most profitable of all of the hotel’s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leeping room is an accommodation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ce of each of these unit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ccupanc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easurement of how many rooms are sold each night verses how many rooms the hotel has to se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5 rooms sold of 100 room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5% occupanc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eeting/Function Spa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incorporate the revenue source of non-sleeping rooms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rooms, or function rooms are used for any type of group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venue sources from meeting/function space comes fro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Selling space for a specified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Providing food and beverage service in the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8d3e"/>
                </a:solidFill>
                <a:latin typeface="Verdana"/>
              </a:rPr>
              <a:t>Outlets/Ancillary Revenue Sources</a:t>
            </a:r>
            <a:endParaRPr b="1" lang="en-US" sz="3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l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ood and beverage point of s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cillar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 are revenue sources outside of sleeping rooms or food and beverage such as gift shops or spa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fit Margin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sleeping room is the most profitable portion  of all hotel products because of profit marg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margin is determined by comparing sales revenue verses the costs incurred in providing a product or ser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 cost analysis looks at what it costs the hotel to keep a room running in relation to what it is sold for to the gu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71720" y="1785960"/>
          <a:ext cx="6769080" cy="2660760"/>
        </p:xfrm>
        <a:graphic>
          <a:graphicData uri="http://schemas.openxmlformats.org/drawingml/2006/table">
            <a:tbl>
              <a:tblPr/>
              <a:tblGrid>
                <a:gridCol w="2255760"/>
                <a:gridCol w="2257200"/>
                <a:gridCol w="225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/L/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usekee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ineering (Internal structure mainten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nds Maintenance (Grounds surrounding build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t service of owners marketing (Local effo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agement Costs (Inc. franchise or management contract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 Oblig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BC Hotel sells a room for an average of $150 per night. The cost incurred in preparing each room for sale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.00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usekeep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9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/Groun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5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t service of ow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0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agement co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7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porate obligatio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axes, et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2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1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this to the actual cost to the price sold (room rate) and the room cost can be determined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st 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ctual Co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  31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.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 – Room Cost = Prof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274680" y="353880"/>
            <a:ext cx="8588160" cy="6222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on misconception in the hospitality industry is to consider food sales as profitable as room sales. This is not th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is the cost of a particular food item in relation to the price for which it is s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simply, the food cost percentage is the percentage of the profit taken up but the actual cost of the i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for determining the cost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= Purchase Price / Menu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te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urchase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enu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ood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a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22.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7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ick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3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7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esar Salad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.99/ea.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 9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night when a room goes unsold the hotel loses that opportunity to ever sell it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Empty Room Theory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at once a room goes unoccupied, it is gone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BC Hotel has 400 sleeping roo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Cos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it Marg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leeping Ro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20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aily maximum room profit potential i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48,000  ($120x4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eek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$336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th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$1,40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ear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$17,52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7,520,000 is the maximum potential room profit that ABC Hotel could make in a year. Each unoccupied room subtracts from that number. It is easy to understand why hotel operators focus so much attention on occupan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aptive Audience Quoti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ive audi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guests who are staying at the hotel who will utilise the outlet in the hot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ive audience quotients apply to both outlet/ancillary sales and catering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catering contribu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atering business acquired by a hotel that has all, or a large percentage of, the attendees staying at the hotel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007B-C7C1-4B0B-B033-2E8E357B7E2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naging Quality Control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14400" y="12139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 achie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ke most service related organizations, hotels are divided between LINE functions and STAFF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215040" y="4000680"/>
            <a:ext cx="2317680" cy="192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fotosearch.com/bthumb/IMZ/IMZ004/shu0103.jpg"/>
          <p:cNvPicPr/>
          <p:nvPr/>
        </p:nvPicPr>
        <p:blipFill>
          <a:blip r:embed="rId2"/>
          <a:stretch/>
        </p:blipFill>
        <p:spPr>
          <a:xfrm>
            <a:off x="500040" y="4071960"/>
            <a:ext cx="24400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ine Fun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1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functions are the tasks assigned to employees that bring them in regular contact with gues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operations in a hotel are the Rooms Division &amp; Food and Beverage Div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employees are hands-on participants in the assembly and delivery of the hotel’s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=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176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las col 3.jpg"/>
          <p:cNvPicPr/>
          <p:nvPr/>
        </p:nvPicPr>
        <p:blipFill>
          <a:blip r:embed="rId1"/>
          <a:stretch/>
        </p:blipFill>
        <p:spPr>
          <a:xfrm>
            <a:off x="6286680" y="1285920"/>
            <a:ext cx="2342880" cy="1514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ROOMS DEPARTM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428840"/>
            <a:ext cx="828648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erforms the lodging function of a hote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cludes Front Office, Re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niformed Services and House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asks performe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ceive reserv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ceive gu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sign rooms to gu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intain status of room (available or vacant?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ceive mail / phone messages for gu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intain security &amp; cleanliness in rooms and public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swer guests’ ques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lose coordination needed by all sub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OOD AND BEVERAGE DEPART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ood and beverage for gu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include coffee shop, restaurant, poolside snack bar, room service, banquet, function rooms, lobby bar, nightclub / disco, room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s banquet and catering services for events in the hot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4" descr="chef.jpg"/>
          <p:cNvPicPr/>
          <p:nvPr/>
        </p:nvPicPr>
        <p:blipFill>
          <a:blip r:embed="rId1"/>
          <a:stretch/>
        </p:blipFill>
        <p:spPr>
          <a:xfrm>
            <a:off x="2643120" y="4143240"/>
            <a:ext cx="3214800" cy="215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Food and Beverage Department 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sts of kitchen (food preparation) and F&amp;B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s individual F&amp;B outlets – restaurants and coffee shop etc (each managed by a manag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ll service hotels have convention and catering sub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warding subunit does the purchasing,cleaning and washing, expediting and arranging facilities for food and be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LINE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ssions, rentals, and com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tness and recreation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01T14:40:12Z</dcterms:modified>
  <cp:revision>62</cp:revision>
  <dc:subject/>
  <dc:title>FRONT OFFICE OPERATIONS MANAGEMENT</dc:title>
</cp:coreProperties>
</file>